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2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2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D02D-DC60-4EB3-9577-F52BECE7E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F89A-FBCE-48A0-AA70-82B58ADAD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D1B-992C-4A7E-B8C0-27E309E4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460-53F2-4108-9308-D5C637B4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DBE-1D87-412E-BAAD-72BEDF15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75B-2A13-46C2-A4C1-E935C8B4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BD5D9-0F93-4897-9BAB-8823215527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3745B-9E5A-4540-A2C3-E8CDBEE343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321CD-5777-4010-882F-02FBE11D58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028A1-AB7C-45D6-8AE2-EE7D88F52E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589D5-45FB-4179-A7FD-AE3BC91A7F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F2356-DC62-4D12-975E-9468B54E6E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8A695-255E-486A-8856-384F1F59A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A11-2918-4CC3-8578-0863440D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16B09-835B-434B-8328-34B90DE1CE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B97C1-1D62-4D1B-A0E7-9F4350446B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0FDC8-E360-4FAB-AD90-F7B8F24988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CAF79-0881-4143-8E0B-2B2DC8021C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555E4-E411-4065-9DD4-78ECC56766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F1829-B0EC-45F1-B62B-E90DA3B59E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FAE8A-5091-408D-BB95-B0BCD5532B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B4389-8829-4170-B220-E1E33A858B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CBA15-0AF9-4C81-813F-4CA6D5DE85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9193C-0B0F-49B5-A1F7-C9DB1101E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BBD-0611-4FD3-8356-F6021764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F13AC-03FF-423B-992D-D90E5BC133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7C185-BE4C-4D9C-A138-15EC19CCD6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826A9-008A-4CE5-8CB3-22945CB3C2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05EE6-3E76-445B-988A-7876626069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9AAB2-D392-4253-883D-81819E1611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3CEF7-8D7A-4444-A208-11DF539BC1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BD81F-4E8E-4104-89F4-43459EC9CD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F003B-D150-4A08-A846-BF609549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5C5A4-1DAE-40DB-88B2-8DC58168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149A1-9A8C-410A-991F-A9D84088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C2E-A522-460B-8F66-F76AE37B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068B0-9D04-4ED0-A09C-70852A6D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222D2-DAD8-4C38-B9CA-6DDE479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5E0F2-E2A7-489B-8D42-48575D6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94C62-1242-49D8-AD33-785648AE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ECF30-8800-4194-8536-6F80EDD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358E6-36AD-4CEF-BE31-7B930FF9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B5658-8EFD-4D21-9B23-B730B8E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0F741-F3B8-4556-B042-2DBE7B76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41935-21C8-4253-869B-37E613FD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E0CFF-1678-4EB7-8D26-4332BF73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602-341E-4213-8C31-5E3AAABA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F58F2-68EB-4676-92AB-239ABE5D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AE069-AC0C-4915-B0DB-41BCA83B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6B226-628D-4056-88BD-B6129B15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3FFD2-FBD1-412D-A92D-87EAACDA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D8970-35E7-45AD-9B7D-16F2D4C2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CB3CA-B10C-4F68-ACB0-841B405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A5918-6359-4A41-A069-BB0DC337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6141B-DB77-42E7-A4A1-CCC0D9B9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B1224-F252-4152-830A-94F774DB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924F0-7D95-47D3-9BB3-A831FEDC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2BF-BBCD-447F-ADD1-D8E70B3E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9987D-2375-46E0-99C0-B20ABF10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4BBEE-1502-4AF3-A3FB-C60F9B6C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B61D0-79F5-499D-A02C-614CCA49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B217E-1091-49A5-83F9-FB40ABEA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E1720-6C6F-42F3-A935-FEE0527E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E7C6D-E962-4C2D-B322-B1A86CFD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F3F10-38D1-43B7-9EBA-CB4DD1BA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040F2-C004-4B91-9810-552EDF7D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64B98-1B52-4210-A013-1402C12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833BF-EFDE-4689-A02C-45C0CCF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F6B-6F38-46F2-A031-7AB8AE2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49F15-2A70-4C0D-AD2B-9D774D17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06157-ADFA-49F5-9337-3C335E94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6478C-1452-49D8-BC88-817738DB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2E66EE-981E-411A-A52B-B1AFC177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BD0A4-6AB5-40C4-A452-09F5A119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1555A-8265-411E-83F4-00457225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BE084-943B-4B2C-9393-E61E0EF3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A8B00-C141-4F6C-887F-1356494B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9C3DA-1CAF-4268-BB1C-484422E8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86DAA-B8C0-4719-832E-4F2E4456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4D3-C41F-49E7-947B-A8767085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F79A7-3BAB-4CC0-9B2B-44D9350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7ED71-ABD8-4B64-8654-8434F427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F8975-DB42-46FB-949E-DC2931B4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F6607-1E9E-436F-9FB7-F7F6F0EF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56CF1-BE77-47F5-8E45-EE298AAC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A8E57-E2D5-4325-A248-8A14EC2F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6921F-E6EA-4194-8DAF-0960D122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E4C25-5146-4EB7-8D88-FA375C0B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D0A80-0B61-423F-BE69-5360E4E1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4F7EB-3B80-466E-B969-34351CBF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575-2C5B-4BEC-AEEA-7D4165A9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3BE6C-F149-4BF7-9183-322D37A9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B4CA2-73AE-4CB7-913B-84BE4F7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FADBC-0E41-438B-9B4B-D187FDA9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8833D-89AD-4531-9558-92C05A13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94B93-73E6-46EF-8878-70158BEA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0E720-6A67-4220-86D3-3519C04A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CF2C3-C31F-47A5-9A85-AE36C46E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F292-5F68-4A0E-96A7-7CF9CDA29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24F6-C26E-4C76-B722-D2C3FBEB5BCE}" type="slidenum"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empus Sans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D914-7898-4671-BCD6-939CDA2A61D2}" type="slidenum"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EB2D-08BC-4E4A-9415-30DB0880C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542B-FE8F-44E3-B924-C60D2B548A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7B91-0059-43B4-882A-E50798F4D5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1C5F-F44A-4088-8FC2-248C700F2F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A37C-6628-4CF9-88E7-79C066F7A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2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B4EC-DBC2-419F-8E6A-8F1FF9582194}" type="slidenum"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2590560"/>
            <a:ext cx="876312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GFDL HFIP/HRH Comparison Results and Other Advances in Hurricane Modeling</a:t>
            </a:r>
            <a:br>
              <a:rPr sz="3200"/>
            </a:br>
            <a:br>
              <a:rPr sz="36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aac Ginis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chard Yablonsk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Biju Thomas, Yalin Fan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iversity of Rhode Island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3" name="Picture 9" descr="ivan091404-1315z"/>
          <p:cNvPicPr/>
          <p:nvPr/>
        </p:nvPicPr>
        <p:blipFill>
          <a:blip r:embed="rId1"/>
          <a:stretch/>
        </p:blipFill>
        <p:spPr>
          <a:xfrm>
            <a:off x="0" y="0"/>
            <a:ext cx="9144000" cy="15112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4"/>
          <p:cNvSpPr/>
          <p:nvPr/>
        </p:nvSpPr>
        <p:spPr>
          <a:xfrm>
            <a:off x="2837520" y="5715000"/>
            <a:ext cx="36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FIP/HRH Conferenc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 Ma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9"/>
          <p:cNvGrpSpPr/>
          <p:nvPr/>
        </p:nvGrpSpPr>
        <p:grpSpPr>
          <a:xfrm>
            <a:off x="4572000" y="3424320"/>
            <a:ext cx="4572000" cy="3433680"/>
            <a:chOff x="4572000" y="3424320"/>
            <a:chExt cx="4572000" cy="3433680"/>
          </a:xfrm>
        </p:grpSpPr>
        <p:pic>
          <p:nvPicPr>
            <p:cNvPr id="373" name="Picture 26" descr="C:\Users\Richard\Documents\student seminar 08\WCR-3D-2.4-R2.14.T-1.png"/>
            <p:cNvPicPr/>
            <p:nvPr/>
          </p:nvPicPr>
          <p:blipFill>
            <a:blip r:embed="rId1"/>
            <a:stretch/>
          </p:blipFill>
          <p:spPr>
            <a:xfrm>
              <a:off x="4572000" y="3424320"/>
              <a:ext cx="4572000" cy="34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Box 21"/>
            <p:cNvSpPr/>
            <p:nvPr/>
          </p:nvSpPr>
          <p:spPr>
            <a:xfrm>
              <a:off x="5187600" y="38862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CR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18"/>
            <p:cNvSpPr/>
            <p:nvPr/>
          </p:nvSpPr>
          <p:spPr>
            <a:xfrm>
              <a:off x="7853760" y="38862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Straight Arrow Connector 12"/>
            <p:cNvCxnSpPr/>
            <p:nvPr/>
          </p:nvCxnSpPr>
          <p:spPr>
            <a:xfrm flipH="1">
              <a:off x="7543440" y="4069080"/>
              <a:ext cx="381600" cy="45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77" name="TextBox 18"/>
            <p:cNvSpPr/>
            <p:nvPr/>
          </p:nvSpPr>
          <p:spPr>
            <a:xfrm>
              <a:off x="7091280" y="50403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8" name="Straight Arrow Connector 16"/>
            <p:cNvCxnSpPr/>
            <p:nvPr/>
          </p:nvCxnSpPr>
          <p:spPr>
            <a:xfrm flipH="1" flipV="1">
              <a:off x="6933600" y="5028480"/>
              <a:ext cx="229320" cy="15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79" name="Group 28"/>
          <p:cNvGrpSpPr/>
          <p:nvPr/>
        </p:nvGrpSpPr>
        <p:grpSpPr>
          <a:xfrm>
            <a:off x="0" y="3425760"/>
            <a:ext cx="4572000" cy="3432240"/>
            <a:chOff x="0" y="3425760"/>
            <a:chExt cx="4572000" cy="3432240"/>
          </a:xfrm>
        </p:grpSpPr>
        <p:pic>
          <p:nvPicPr>
            <p:cNvPr id="380" name="Picture 25" descr="C:\Users\Richard\Documents\student seminar 08\WCR-3D-2.4-L2.14.T-1.png"/>
            <p:cNvPicPr/>
            <p:nvPr/>
          </p:nvPicPr>
          <p:blipFill>
            <a:blip r:embed="rId2"/>
            <a:stretch/>
          </p:blipFill>
          <p:spPr>
            <a:xfrm>
              <a:off x="0" y="3425760"/>
              <a:ext cx="4572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Box 19"/>
            <p:cNvSpPr/>
            <p:nvPr/>
          </p:nvSpPr>
          <p:spPr>
            <a:xfrm>
              <a:off x="614880" y="38858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C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18"/>
            <p:cNvSpPr/>
            <p:nvPr/>
          </p:nvSpPr>
          <p:spPr>
            <a:xfrm>
              <a:off x="3281760" y="534528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3" name="Straight Arrow Connector 10"/>
            <p:cNvCxnSpPr/>
            <p:nvPr/>
          </p:nvCxnSpPr>
          <p:spPr>
            <a:xfrm flipH="1">
              <a:off x="2971440" y="5517000"/>
              <a:ext cx="381600" cy="45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84" name="TextBox 18"/>
            <p:cNvSpPr/>
            <p:nvPr/>
          </p:nvSpPr>
          <p:spPr>
            <a:xfrm>
              <a:off x="2519280" y="50403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5" name="Straight Arrow Connector 14"/>
            <p:cNvCxnSpPr/>
            <p:nvPr/>
          </p:nvCxnSpPr>
          <p:spPr>
            <a:xfrm flipH="1" flipV="1">
              <a:off x="2361600" y="5028480"/>
              <a:ext cx="229320" cy="15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86" name="Group 27"/>
          <p:cNvGrpSpPr/>
          <p:nvPr/>
        </p:nvGrpSpPr>
        <p:grpSpPr>
          <a:xfrm>
            <a:off x="0" y="223920"/>
            <a:ext cx="4572000" cy="3433680"/>
            <a:chOff x="0" y="223920"/>
            <a:chExt cx="4572000" cy="3433680"/>
          </a:xfrm>
        </p:grpSpPr>
        <p:pic>
          <p:nvPicPr>
            <p:cNvPr id="387" name="Picture 27" descr="C:\Users\Richard\Documents\student seminar 08\WCR-3D-2.4-C0.14.T-1.png"/>
            <p:cNvPicPr/>
            <p:nvPr/>
          </p:nvPicPr>
          <p:blipFill>
            <a:blip r:embed="rId3"/>
            <a:stretch/>
          </p:blipFill>
          <p:spPr>
            <a:xfrm>
              <a:off x="0" y="223920"/>
              <a:ext cx="4572000" cy="34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Box 20"/>
            <p:cNvSpPr/>
            <p:nvPr/>
          </p:nvSpPr>
          <p:spPr>
            <a:xfrm>
              <a:off x="615600" y="53316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C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18"/>
            <p:cNvSpPr/>
            <p:nvPr/>
          </p:nvSpPr>
          <p:spPr>
            <a:xfrm>
              <a:off x="3281760" y="130644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Straight Arrow Connector 18"/>
            <p:cNvCxnSpPr/>
            <p:nvPr/>
          </p:nvCxnSpPr>
          <p:spPr>
            <a:xfrm flipH="1">
              <a:off x="2971440" y="1478520"/>
              <a:ext cx="381600" cy="45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91" name="TextBox 18"/>
            <p:cNvSpPr/>
            <p:nvPr/>
          </p:nvSpPr>
          <p:spPr>
            <a:xfrm>
              <a:off x="2519280" y="18399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2" name="Straight Arrow Connector 22"/>
            <p:cNvCxnSpPr/>
            <p:nvPr/>
          </p:nvCxnSpPr>
          <p:spPr>
            <a:xfrm flipH="1" flipV="1">
              <a:off x="2361600" y="1828080"/>
              <a:ext cx="229320" cy="15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93" name="Group 26"/>
          <p:cNvGrpSpPr/>
          <p:nvPr/>
        </p:nvGrpSpPr>
        <p:grpSpPr>
          <a:xfrm>
            <a:off x="4572000" y="223920"/>
            <a:ext cx="4572000" cy="3433680"/>
            <a:chOff x="4572000" y="223920"/>
            <a:chExt cx="4572000" cy="3433680"/>
          </a:xfrm>
        </p:grpSpPr>
        <p:pic>
          <p:nvPicPr>
            <p:cNvPr id="394" name="Picture 28" descr="C:\Users\Richard\Documents\student seminar 08\WCR-3D-2.4-N0.14.T-1.png"/>
            <p:cNvPicPr/>
            <p:nvPr/>
          </p:nvPicPr>
          <p:blipFill>
            <a:blip r:embed="rId4"/>
            <a:stretch/>
          </p:blipFill>
          <p:spPr>
            <a:xfrm>
              <a:off x="4572000" y="223920"/>
              <a:ext cx="4572000" cy="34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Box 22"/>
            <p:cNvSpPr/>
            <p:nvPr/>
          </p:nvSpPr>
          <p:spPr>
            <a:xfrm>
              <a:off x="5186160" y="5331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T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18"/>
            <p:cNvSpPr/>
            <p:nvPr/>
          </p:nvSpPr>
          <p:spPr>
            <a:xfrm>
              <a:off x="7091280" y="18399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Straight Arrow Connector 24"/>
            <p:cNvCxnSpPr/>
            <p:nvPr/>
          </p:nvCxnSpPr>
          <p:spPr>
            <a:xfrm flipH="1" flipV="1">
              <a:off x="6933600" y="1828080"/>
              <a:ext cx="229320" cy="15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98" name="TextBox 7"/>
          <p:cNvSpPr/>
          <p:nvPr/>
        </p:nvSpPr>
        <p:spPr>
          <a:xfrm>
            <a:off x="4127760" y="3124080"/>
            <a:ext cx="105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4 m 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Straight Arrow Connector 8"/>
          <p:cNvCxnSpPr/>
          <p:nvPr/>
        </p:nvCxnSpPr>
        <p:spPr>
          <a:xfrm flipH="1" flipV="1">
            <a:off x="4236480" y="3884400"/>
            <a:ext cx="6404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00" name="Group 38"/>
          <p:cNvGrpSpPr/>
          <p:nvPr/>
        </p:nvGrpSpPr>
        <p:grpSpPr>
          <a:xfrm>
            <a:off x="1847880" y="985680"/>
            <a:ext cx="1168200" cy="1376640"/>
            <a:chOff x="1847880" y="985680"/>
            <a:chExt cx="1168200" cy="1376640"/>
          </a:xfrm>
        </p:grpSpPr>
        <p:pic>
          <p:nvPicPr>
            <p:cNvPr id="401" name="TextBox 30" descr=""/>
            <p:cNvPicPr/>
            <p:nvPr/>
          </p:nvPicPr>
          <p:blipFill>
            <a:blip r:embed="rId5"/>
            <a:stretch/>
          </p:blipFill>
          <p:spPr>
            <a:xfrm>
              <a:off x="2459880" y="985680"/>
              <a:ext cx="55620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TextBox 31" descr=""/>
            <p:cNvPicPr/>
            <p:nvPr/>
          </p:nvPicPr>
          <p:blipFill>
            <a:blip r:embed="rId6"/>
            <a:stretch/>
          </p:blipFill>
          <p:spPr>
            <a:xfrm>
              <a:off x="1847880" y="1750320"/>
              <a:ext cx="556200" cy="61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Group 40"/>
          <p:cNvGrpSpPr/>
          <p:nvPr/>
        </p:nvGrpSpPr>
        <p:grpSpPr>
          <a:xfrm>
            <a:off x="6324480" y="3500280"/>
            <a:ext cx="1168560" cy="1376640"/>
            <a:chOff x="6324480" y="3500280"/>
            <a:chExt cx="1168560" cy="1376640"/>
          </a:xfrm>
        </p:grpSpPr>
        <p:pic>
          <p:nvPicPr>
            <p:cNvPr id="404" name="TextBox 34" descr=""/>
            <p:cNvPicPr/>
            <p:nvPr/>
          </p:nvPicPr>
          <p:blipFill>
            <a:blip r:embed="rId7"/>
            <a:stretch/>
          </p:blipFill>
          <p:spPr>
            <a:xfrm>
              <a:off x="6936480" y="3500280"/>
              <a:ext cx="556560" cy="6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TextBox 35" descr=""/>
            <p:cNvPicPr/>
            <p:nvPr/>
          </p:nvPicPr>
          <p:blipFill>
            <a:blip r:embed="rId8"/>
            <a:stretch/>
          </p:blipFill>
          <p:spPr>
            <a:xfrm>
              <a:off x="6324480" y="4262400"/>
              <a:ext cx="561240" cy="6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39"/>
          <p:cNvGrpSpPr/>
          <p:nvPr/>
        </p:nvGrpSpPr>
        <p:grpSpPr>
          <a:xfrm>
            <a:off x="1828800" y="4795920"/>
            <a:ext cx="1168560" cy="1376280"/>
            <a:chOff x="1828800" y="4795920"/>
            <a:chExt cx="1168560" cy="1376280"/>
          </a:xfrm>
        </p:grpSpPr>
        <p:pic>
          <p:nvPicPr>
            <p:cNvPr id="407" name="TextBox 36" descr=""/>
            <p:cNvPicPr/>
            <p:nvPr/>
          </p:nvPicPr>
          <p:blipFill>
            <a:blip r:embed="rId9"/>
            <a:stretch/>
          </p:blipFill>
          <p:spPr>
            <a:xfrm>
              <a:off x="2440800" y="4795920"/>
              <a:ext cx="556560" cy="6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TextBox 37" descr=""/>
            <p:cNvPicPr/>
            <p:nvPr/>
          </p:nvPicPr>
          <p:blipFill>
            <a:blip r:embed="rId10"/>
            <a:stretch/>
          </p:blipFill>
          <p:spPr>
            <a:xfrm>
              <a:off x="1828800" y="5560560"/>
              <a:ext cx="556560" cy="61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TextBox 17"/>
          <p:cNvSpPr/>
          <p:nvPr/>
        </p:nvSpPr>
        <p:spPr>
          <a:xfrm>
            <a:off x="228600" y="87480"/>
            <a:ext cx="868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 OF WCR LOCATION ON STORM-CORE SST C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8"/>
          <p:cNvSpPr/>
          <p:nvPr/>
        </p:nvSpPr>
        <p:spPr>
          <a:xfrm>
            <a:off x="76320" y="228600"/>
            <a:ext cx="4495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d Model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m/s environmental wind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ean mode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C:\Users\Richard\Documents\Dissertation\powerpoints_for_reference\coupledplots\trackallzz325.png"/>
          <p:cNvPicPr/>
          <p:nvPr/>
        </p:nvPicPr>
        <p:blipFill>
          <a:blip r:embed="rId1"/>
          <a:stretch/>
        </p:blipFill>
        <p:spPr>
          <a:xfrm>
            <a:off x="0" y="3424320"/>
            <a:ext cx="4572000" cy="34336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1447920" y="3592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630360" y="5851440"/>
            <a:ext cx="685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33"/>
          <p:cNvGrpSpPr/>
          <p:nvPr/>
        </p:nvGrpSpPr>
        <p:grpSpPr>
          <a:xfrm>
            <a:off x="304920" y="2209680"/>
            <a:ext cx="3962160" cy="990720"/>
            <a:chOff x="304920" y="2209680"/>
            <a:chExt cx="3962160" cy="990720"/>
          </a:xfrm>
        </p:grpSpPr>
        <p:sp>
          <p:nvSpPr>
            <p:cNvPr id="415" name="TextBox 22"/>
            <p:cNvSpPr/>
            <p:nvPr/>
          </p:nvSpPr>
          <p:spPr>
            <a:xfrm>
              <a:off x="321120" y="27432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22"/>
            <p:cNvSpPr/>
            <p:nvPr/>
          </p:nvSpPr>
          <p:spPr>
            <a:xfrm>
              <a:off x="3294000" y="27432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WCR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22"/>
            <p:cNvSpPr/>
            <p:nvPr/>
          </p:nvSpPr>
          <p:spPr>
            <a:xfrm>
              <a:off x="1236600" y="27432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WC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22"/>
            <p:cNvSpPr/>
            <p:nvPr/>
          </p:nvSpPr>
          <p:spPr>
            <a:xfrm>
              <a:off x="2302560" y="27432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WC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15"/>
            <p:cNvSpPr/>
            <p:nvPr/>
          </p:nvSpPr>
          <p:spPr>
            <a:xfrm>
              <a:off x="1759680" y="229752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6"/>
            <p:cNvSpPr/>
            <p:nvPr/>
          </p:nvSpPr>
          <p:spPr>
            <a:xfrm>
              <a:off x="304920" y="2209680"/>
              <a:ext cx="396216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19"/>
          <p:cNvSpPr/>
          <p:nvPr/>
        </p:nvSpPr>
        <p:spPr>
          <a:xfrm>
            <a:off x="3052800" y="5562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-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843840" y="419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-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1"/>
          <p:cNvSpPr/>
          <p:nvPr/>
        </p:nvSpPr>
        <p:spPr>
          <a:xfrm>
            <a:off x="2290680" y="4800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-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36"/>
          <p:cNvGrpSpPr/>
          <p:nvPr/>
        </p:nvGrpSpPr>
        <p:grpSpPr>
          <a:xfrm>
            <a:off x="4572000" y="3429000"/>
            <a:ext cx="4572000" cy="3432240"/>
            <a:chOff x="4572000" y="3429000"/>
            <a:chExt cx="4572000" cy="3432240"/>
          </a:xfrm>
        </p:grpSpPr>
        <p:pic>
          <p:nvPicPr>
            <p:cNvPr id="425" name="Picture 3" descr="C:\Users\Richard\Documents\Dissertation\powerpoints_for_reference\coupledplots\pressureallzz325.png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572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Box 6"/>
            <p:cNvSpPr/>
            <p:nvPr/>
          </p:nvSpPr>
          <p:spPr>
            <a:xfrm>
              <a:off x="6033960" y="3592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entral Press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5202000" y="5851800"/>
              <a:ext cx="6858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22"/>
            <p:cNvSpPr/>
            <p:nvPr/>
          </p:nvSpPr>
          <p:spPr>
            <a:xfrm>
              <a:off x="4805280" y="61722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4-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23"/>
            <p:cNvSpPr/>
            <p:nvPr/>
          </p:nvSpPr>
          <p:spPr>
            <a:xfrm>
              <a:off x="6634080" y="61722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6-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24"/>
            <p:cNvSpPr/>
            <p:nvPr/>
          </p:nvSpPr>
          <p:spPr>
            <a:xfrm>
              <a:off x="8235360" y="61833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8-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35"/>
          <p:cNvGrpSpPr/>
          <p:nvPr/>
        </p:nvGrpSpPr>
        <p:grpSpPr>
          <a:xfrm>
            <a:off x="4572000" y="0"/>
            <a:ext cx="4572000" cy="3433680"/>
            <a:chOff x="4572000" y="0"/>
            <a:chExt cx="4572000" cy="3433680"/>
          </a:xfrm>
        </p:grpSpPr>
        <p:pic>
          <p:nvPicPr>
            <p:cNvPr id="432" name="Picture 2" descr="C:\Users\Richard\Documents\Dissertation\powerpoints_for_reference\coupledplots\dsstallzz325.png"/>
            <p:cNvPicPr/>
            <p:nvPr/>
          </p:nvPicPr>
          <p:blipFill>
            <a:blip r:embed="rId3"/>
            <a:stretch/>
          </p:blipFill>
          <p:spPr>
            <a:xfrm>
              <a:off x="4572000" y="0"/>
              <a:ext cx="4572000" cy="34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Box 7"/>
            <p:cNvSpPr/>
            <p:nvPr/>
          </p:nvSpPr>
          <p:spPr>
            <a:xfrm>
              <a:off x="6033600" y="304560"/>
              <a:ext cx="27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-km SST coo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>
              <a:off x="5202000" y="228600"/>
              <a:ext cx="6858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25"/>
            <p:cNvSpPr/>
            <p:nvPr/>
          </p:nvSpPr>
          <p:spPr>
            <a:xfrm>
              <a:off x="4805280" y="27543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4-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26"/>
            <p:cNvSpPr/>
            <p:nvPr/>
          </p:nvSpPr>
          <p:spPr>
            <a:xfrm>
              <a:off x="6634080" y="27432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6-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27"/>
            <p:cNvSpPr/>
            <p:nvPr/>
          </p:nvSpPr>
          <p:spPr>
            <a:xfrm>
              <a:off x="8235360" y="27432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8-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45"/>
          <p:cNvGrpSpPr/>
          <p:nvPr/>
        </p:nvGrpSpPr>
        <p:grpSpPr>
          <a:xfrm>
            <a:off x="918000" y="3733920"/>
            <a:ext cx="3039840" cy="2742840"/>
            <a:chOff x="918000" y="3733920"/>
            <a:chExt cx="3039840" cy="2742840"/>
          </a:xfrm>
        </p:grpSpPr>
        <p:sp>
          <p:nvSpPr>
            <p:cNvPr id="439" name="TextBox 34"/>
            <p:cNvSpPr/>
            <p:nvPr/>
          </p:nvSpPr>
          <p:spPr>
            <a:xfrm>
              <a:off x="3304800" y="3733920"/>
              <a:ext cx="65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CR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35"/>
            <p:cNvSpPr/>
            <p:nvPr/>
          </p:nvSpPr>
          <p:spPr>
            <a:xfrm>
              <a:off x="918000" y="6200280"/>
              <a:ext cx="62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CR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36"/>
            <p:cNvSpPr/>
            <p:nvPr/>
          </p:nvSpPr>
          <p:spPr>
            <a:xfrm>
              <a:off x="3304800" y="5133240"/>
              <a:ext cx="65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C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2" name="Straight Arrow Connector 38"/>
            <p:cNvCxnSpPr/>
            <p:nvPr/>
          </p:nvCxnSpPr>
          <p:spPr>
            <a:xfrm flipH="1">
              <a:off x="3071520" y="3885120"/>
              <a:ext cx="281520" cy="153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43" name="Straight Arrow Connector 40"/>
            <p:cNvCxnSpPr/>
            <p:nvPr/>
          </p:nvCxnSpPr>
          <p:spPr>
            <a:xfrm flipH="1" flipV="1">
              <a:off x="3047760" y="5257080"/>
              <a:ext cx="305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44" name="Straight Arrow Connector 43"/>
            <p:cNvCxnSpPr/>
            <p:nvPr/>
          </p:nvCxnSpPr>
          <p:spPr>
            <a:xfrm flipV="1">
              <a:off x="1371240" y="6095520"/>
              <a:ext cx="253080" cy="153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445" name="Straight Arrow Connector 36"/>
          <p:cNvCxnSpPr/>
          <p:nvPr/>
        </p:nvCxnSpPr>
        <p:spPr>
          <a:xfrm flipH="1">
            <a:off x="4645800" y="1218960"/>
            <a:ext cx="2520" cy="144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TextBox 37"/>
          <p:cNvSpPr/>
          <p:nvPr/>
        </p:nvSpPr>
        <p:spPr>
          <a:xfrm>
            <a:off x="4026240" y="60948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Straight Arrow Connector 39"/>
          <p:cNvCxnSpPr/>
          <p:nvPr/>
        </p:nvCxnSpPr>
        <p:spPr>
          <a:xfrm flipH="1">
            <a:off x="4645800" y="4647960"/>
            <a:ext cx="2520" cy="144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TextBox 41"/>
          <p:cNvSpPr/>
          <p:nvPr/>
        </p:nvSpPr>
        <p:spPr>
          <a:xfrm>
            <a:off x="4026240" y="403848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2514600" y="1143000"/>
            <a:ext cx="373392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Hurrica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"/>
          <p:cNvSpPr/>
          <p:nvPr/>
        </p:nvSpPr>
        <p:spPr>
          <a:xfrm>
            <a:off x="228600" y="3276720"/>
            <a:ext cx="8610480" cy="0"/>
          </a:xfrm>
          <a:prstGeom prst="line">
            <a:avLst/>
          </a:prstGeom>
          <a:ln w="4752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 rot="10800000">
            <a:off x="3580920" y="1676160"/>
            <a:ext cx="182520" cy="1143000"/>
          </a:xfrm>
          <a:prstGeom prst="upArrow">
            <a:avLst>
              <a:gd name="adj1" fmla="val 50000"/>
              <a:gd name="adj2" fmla="val 156558"/>
            </a:avLst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276720" y="4495680"/>
            <a:ext cx="228600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Ocea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3200400" y="2819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-Se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8"/>
          <p:cNvSpPr/>
          <p:nvPr/>
        </p:nvSpPr>
        <p:spPr>
          <a:xfrm rot="10800000">
            <a:off x="3580920" y="3505320"/>
            <a:ext cx="182520" cy="914400"/>
          </a:xfrm>
          <a:prstGeom prst="upArrow">
            <a:avLst>
              <a:gd name="adj1" fmla="val 50000"/>
              <a:gd name="adj2" fmla="val 125247"/>
            </a:avLst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9"/>
          <p:cNvSpPr/>
          <p:nvPr/>
        </p:nvSpPr>
        <p:spPr>
          <a:xfrm>
            <a:off x="4998960" y="3505320"/>
            <a:ext cx="182520" cy="914400"/>
          </a:xfrm>
          <a:prstGeom prst="upArrow">
            <a:avLst>
              <a:gd name="adj1" fmla="val 50000"/>
              <a:gd name="adj2" fmla="val 125247"/>
            </a:avLst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0"/>
          <p:cNvSpPr/>
          <p:nvPr/>
        </p:nvSpPr>
        <p:spPr>
          <a:xfrm>
            <a:off x="5029200" y="1676520"/>
            <a:ext cx="182520" cy="1143000"/>
          </a:xfrm>
          <a:prstGeom prst="upArrow">
            <a:avLst>
              <a:gd name="adj1" fmla="val 50000"/>
              <a:gd name="adj2" fmla="val 156558"/>
            </a:avLst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533520" y="5181480"/>
                <a:ext cx="32194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5181480" y="5181480"/>
                <a:ext cx="3114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5"/>
              <p:cNvSpPr txBox="1"/>
              <p:nvPr/>
            </p:nvSpPr>
            <p:spPr>
              <a:xfrm>
                <a:off x="2895480" y="5791320"/>
                <a:ext cx="33530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0" name="Text Box 62"/>
          <p:cNvSpPr/>
          <p:nvPr/>
        </p:nvSpPr>
        <p:spPr>
          <a:xfrm>
            <a:off x="5715000" y="1676520"/>
            <a:ext cx="42670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mentum flux (</a:t>
            </a:r>
            <a:r>
              <a:rPr b="0" i="1" lang="el-GR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nsible heat flux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tent heat flux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 current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T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3"/>
          <p:cNvSpPr/>
          <p:nvPr/>
        </p:nvSpPr>
        <p:spPr>
          <a:xfrm>
            <a:off x="457200" y="1752480"/>
            <a:ext cx="38862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ind speed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U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mperature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umidity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q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mentum flux (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alibri"/>
              </a:rPr>
              <a:t>Conventional Coupling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alibri"/>
              </a:rPr>
              <a:t>Hurricane and Ocea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7"/>
          <p:cNvSpPr/>
          <p:nvPr/>
        </p:nvSpPr>
        <p:spPr>
          <a:xfrm>
            <a:off x="1622880" y="2209680"/>
            <a:ext cx="5598360" cy="18003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Atmosphere is in equilibr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with se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Waves are fully-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>
            <a:off x="3048120" y="1828800"/>
            <a:ext cx="2819160" cy="2743200"/>
          </a:xfrm>
          <a:prstGeom prst="line">
            <a:avLst/>
          </a:prstGeom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19"/>
          <p:cNvSpPr/>
          <p:nvPr/>
        </p:nvSpPr>
        <p:spPr>
          <a:xfrm flipH="1">
            <a:off x="2971440" y="1713960"/>
            <a:ext cx="3086280" cy="2933640"/>
          </a:xfrm>
          <a:prstGeom prst="line">
            <a:avLst/>
          </a:prstGeom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-65160" y="7920"/>
            <a:ext cx="95900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Coupled Hurricane-Wave-Ocean Framework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for Future HWRF and GFD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C:\Documents and Settings\Isaac Ginis\Desktop\Coupled model flow chart.png"/>
          <p:cNvPicPr/>
          <p:nvPr/>
        </p:nvPicPr>
        <p:blipFill>
          <a:blip r:embed="rId2"/>
          <a:stretch/>
        </p:blipFill>
        <p:spPr>
          <a:xfrm>
            <a:off x="185760" y="1295280"/>
            <a:ext cx="878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nfigu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asymmetries added during bogusing to the initial axisymmetric vortex (operational GFDL model includes vortex asymmetries based on the forecast fields from the previous 12-h forecas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326C-3948-4CEB-A623-2A712227F66D}" type="slidenum"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09480" y="838080"/>
            <a:ext cx="8001000" cy="7632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FDL HRH Experimental Desig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115640" y="2133720"/>
            <a:ext cx="33292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UR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sh 1: 7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x7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– 1/2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sh 2: 11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x11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– 1/6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sh 3: 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x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1/12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4849560" y="2057400"/>
            <a:ext cx="33292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UR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sh 1: 7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x7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– 1/2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sh 2: 11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x11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– 1/6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sh 3: 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x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o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1/18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hysics in all URI1 and URI2 experi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58 cases run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ly – 8, Felix – 7, Katrina - 6, Karen – 4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helia - 10, Philippe -  6, Rita - 6, Wilma – 1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C40-8FDD-43A3-96E3-4D69AD2E422F}" type="slidenum"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609480" y="838080"/>
            <a:ext cx="8001000" cy="7632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FDL HRH Test Experim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mall Increase in Track Skill with Higher Resolution During Days 3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TRACK"/>
          <p:cNvPicPr/>
          <p:nvPr/>
        </p:nvPicPr>
        <p:blipFill>
          <a:blip r:embed="rId1"/>
          <a:stretch/>
        </p:blipFill>
        <p:spPr>
          <a:xfrm>
            <a:off x="1676520" y="1676520"/>
            <a:ext cx="60292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egraded Intensity Skill with Higher Resolution (Increased Positive Wind 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WINDS"/>
          <p:cNvPicPr/>
          <p:nvPr/>
        </p:nvPicPr>
        <p:blipFill>
          <a:blip r:embed="rId1"/>
          <a:stretch/>
        </p:blipFill>
        <p:spPr>
          <a:xfrm>
            <a:off x="990720" y="1895400"/>
            <a:ext cx="60292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6" descr="hfip"/>
          <p:cNvPicPr/>
          <p:nvPr/>
        </p:nvPicPr>
        <p:blipFill>
          <a:blip r:embed="rId1"/>
          <a:stretch/>
        </p:blipFill>
        <p:spPr>
          <a:xfrm>
            <a:off x="5029200" y="3843360"/>
            <a:ext cx="4005360" cy="3014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5" descr="hfip"/>
          <p:cNvPicPr/>
          <p:nvPr/>
        </p:nvPicPr>
        <p:blipFill>
          <a:blip r:embed="rId2"/>
          <a:stretch/>
        </p:blipFill>
        <p:spPr>
          <a:xfrm>
            <a:off x="457200" y="3867120"/>
            <a:ext cx="4191120" cy="2990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hfip"/>
          <p:cNvPicPr/>
          <p:nvPr/>
        </p:nvPicPr>
        <p:blipFill>
          <a:blip r:embed="rId3"/>
          <a:stretch/>
        </p:blipFill>
        <p:spPr>
          <a:xfrm>
            <a:off x="533520" y="914400"/>
            <a:ext cx="4038480" cy="28098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creased Resolution Gave Improved Intensity Prediction with Katrina during 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800600" y="129528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 Current Operational GF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1     12</a:t>
            </a:r>
            <a:r>
              <a:rPr b="1" lang="en-US" sz="2400" spc="-1" strike="noStrike" baseline="30000">
                <a:solidFill>
                  <a:srgbClr val="33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Degree GF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    18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Degree GF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5800" y="1523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0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762120" y="426708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25th,  0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334120" y="55627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57913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2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0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ind Speed Cross-Section (72h) </a:t>
            </a: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atrina: August 25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 0z forecast</a:t>
            </a:r>
            <a:br>
              <a:rPr sz="32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proved Structure with Higher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0" descr="URI2_KATRINA"/>
          <p:cNvPicPr/>
          <p:nvPr/>
        </p:nvPicPr>
        <p:blipFill>
          <a:blip r:embed="rId1"/>
          <a:stretch/>
        </p:blipFill>
        <p:spPr>
          <a:xfrm>
            <a:off x="4267080" y="2590920"/>
            <a:ext cx="4876920" cy="388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1" descr="URI1_KATRINA"/>
          <p:cNvPicPr/>
          <p:nvPr/>
        </p:nvPicPr>
        <p:blipFill>
          <a:blip r:embed="rId2"/>
          <a:stretch/>
        </p:blipFill>
        <p:spPr>
          <a:xfrm>
            <a:off x="-76320" y="2590920"/>
            <a:ext cx="4800600" cy="388620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2"/>
          <p:cNvSpPr/>
          <p:nvPr/>
        </p:nvSpPr>
        <p:spPr>
          <a:xfrm>
            <a:off x="76212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12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952880" y="1981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gree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ccumulated precipitation (47-48 hr)</a:t>
            </a: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atrina: August 25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 0z forecast</a:t>
            </a:r>
            <a:br>
              <a:rPr sz="32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mproved Structure with Higher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838080" y="19051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12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5029200" y="18892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gree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C:\Users\Isaac\Desktop\URI1_KATRINA.2005082700.fcst48hr.ACPrc.png"/>
          <p:cNvPicPr/>
          <p:nvPr/>
        </p:nvPicPr>
        <p:blipFill>
          <a:blip r:embed="rId1"/>
          <a:stretch/>
        </p:blipFill>
        <p:spPr>
          <a:xfrm>
            <a:off x="0" y="2286000"/>
            <a:ext cx="5181480" cy="3890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C:\Users\Isaac\Desktop\URI2_KATRINA.2005082700.fcst48hr.ACPrc.png"/>
          <p:cNvPicPr/>
          <p:nvPr/>
        </p:nvPicPr>
        <p:blipFill>
          <a:blip r:embed="rId2"/>
          <a:stretch/>
        </p:blipFill>
        <p:spPr>
          <a:xfrm>
            <a:off x="4127400" y="2286000"/>
            <a:ext cx="5175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331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esolution ha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x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act on GFDL model performance for HRH test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 horizontal and vertical structure in high-resolution experi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improvements in track forecast sk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graded intensity forecast skill due to increased positive bi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suggest physics may need to be retuned for high resolution for bette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AED7-C1B5-4913-B87B-38378A9E8603}" type="slidenum">
              <a:rPr b="1" lang="en-US" sz="1400" spc="-1" strike="noStrike">
                <a:solidFill>
                  <a:srgbClr val="ffffff"/>
                </a:solidFill>
                <a:latin typeface="Tempus Sans I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609480" y="838080"/>
            <a:ext cx="8001000" cy="76320"/>
          </a:xfrm>
          <a:prstGeom prst="rect">
            <a:avLst/>
          </a:prstGeom>
          <a:solidFill>
            <a:srgbClr val="00009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ummary of HFIP/HRH Tes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4:25:06Z</dcterms:created>
  <dc:creator>Thomas Knutson</dc:creator>
  <dc:description/>
  <dc:language>en-US</dc:language>
  <cp:lastModifiedBy>gopal</cp:lastModifiedBy>
  <dcterms:modified xsi:type="dcterms:W3CDTF">2009-05-20T20:11:31Z</dcterms:modified>
  <cp:revision>166</cp:revision>
  <dc:subject/>
  <dc:title>Hurricane intensity results</dc:title>
</cp:coreProperties>
</file>